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78C-7702-4E2E-BBDE-33B0BA0C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7EE-A992-4D57-A12D-EA9377ED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FB9-6A59-4827-B4FC-76E54EFD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14B-F466-44D2-9EF5-EB7A7431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3B2-4222-4A9B-93D7-AF3F86F7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479-2427-4E88-B73B-73F63D27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0C3-4ED8-4326-BF05-BBEA19F0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865-2A58-4BDD-A638-F369144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A50-0249-456C-8CDF-3415E410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354-2EA2-4E74-8C38-0830F064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9AF-00F9-4D51-B4CC-DB1AAC76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51F-8195-4517-AC85-432949E8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87C1-A0D4-44A6-8975-921E3EDDD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139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 Gothic"/>
              </a:rPr>
              <a:t>Multiplication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95280" y="1066680"/>
          <a:ext cx="6845400" cy="5105520"/>
        </p:xfrm>
        <a:graphic>
          <a:graphicData uri="http://schemas.openxmlformats.org/drawingml/2006/table">
            <a:tbl>
              <a:tblPr/>
              <a:tblGrid>
                <a:gridCol w="488880"/>
                <a:gridCol w="488880"/>
                <a:gridCol w="489240"/>
                <a:gridCol w="488880"/>
                <a:gridCol w="488880"/>
                <a:gridCol w="488880"/>
                <a:gridCol w="488880"/>
                <a:gridCol w="489240"/>
                <a:gridCol w="488880"/>
                <a:gridCol w="488880"/>
                <a:gridCol w="488880"/>
                <a:gridCol w="488880"/>
                <a:gridCol w="489240"/>
                <a:gridCol w="488880"/>
              </a:tblGrid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20:46:37Z</dcterms:created>
  <dc:creator>Administrator</dc:creator>
  <dc:description/>
  <cp:keywords/>
  <dc:language>en-US</dc:language>
  <cp:lastModifiedBy>srsd</cp:lastModifiedBy>
  <dcterms:modified xsi:type="dcterms:W3CDTF">2009-12-11T18:23:20Z</dcterms:modified>
  <cp:revision>1</cp:revision>
  <dc:subject/>
  <dc:title>Multiplication Tab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900071033</vt:lpwstr>
  </property>
</Properties>
</file>